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09E-73F5-46DD-B593-3CBF3E52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AA9-21F2-468C-91D9-0CB75C17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6E1-1424-4CFA-9522-EFAFE19B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8F2-F404-43D4-AFD7-BE5C1063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D52E-93F9-4AC7-8F53-2BF5B600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224F-3F68-46C4-B5D3-8F4D5EE9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6A00-42F2-403D-A468-59AF3132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6691-80B5-4FB7-8E43-C6F9052F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E77F-2FBF-4C59-A9D1-7DBAC7A1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799E-AFE5-4C90-951C-986C435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9357-9618-45DD-B918-8D4D172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D1A-31B0-4890-A8DF-D93E302C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6EB-C40D-4AC1-BC92-E745D1E1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D08-875B-44BB-8604-37886E6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C9C3-9A48-45C3-A91C-D118705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4A99-E268-48A2-8FF6-86DAE2F7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789-CC66-4127-83DC-E3346C84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A5DA8-F444-4D04-9241-C814EA64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7AFAE-B626-4F31-B25E-AC3F67E1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DD7ED-4959-4D8A-8E63-0517D22D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C830-993B-403F-8384-859BDE02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3009C-5B60-443F-AE7E-24EFD516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92F-8EB3-4A04-B4D4-52AB37F0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B5CC-71DC-4F68-9A9A-55D3B00B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22E5-70EB-4414-8C8D-5F2E7FF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7E81-5BFA-4D2E-9813-3FC832FD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26A3-4EAA-409B-B6AC-FBDC33D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AB99-A564-46DD-A191-FB5B837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0BCB-05E7-4782-8323-810BBCE5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E5C9-C203-4228-82C4-E4A8D378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089-8B15-4EB7-8D2A-3ED59E22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75A-7A2A-4DCB-867B-50931C7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CB6-1AD3-4B45-A8A0-DC32971D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D575-B0D6-416E-82B6-79278834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4D8-451E-4084-86E1-A7CF53F8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4E6-9AE8-4D88-A4ED-FC3DFD8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6E0-D429-40E0-88B0-92D7A7AD2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2733-585B-4063-807B-0E5992C71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23D-5823-403B-86DE-A9CA51167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ost-war America: 1945-1960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Dream starts her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burbia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27440" y="1600200"/>
            <a:ext cx="3487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suburbia created in post-war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war housing sho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ittown – mass production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by B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tate Highway Act 1956 &amp; Urban Renew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360" y="182988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How do the suburbs become accessible to Americans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They can afford i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THE G.I. BILL (194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Offered veterans low interest, federally guarantee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Millions used these benefits to buy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Gave veterans $20 a week for 52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vantGarde Md BT"/>
              </a:rPr>
              <a:t>Encouraged veterans to get an education by paying part of their tuition</a:t>
            </a:r>
            <a:r>
              <a:rPr b="0" lang="en-US" sz="32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What was the effect of the G.I.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.I. Bill was designed to help veterans, not transform America…but [the] G.I. Bill was the best piece of legislation ever passed by the U.S. Congress, and it made modern Americ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ephen Ambrose, Histor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Md BT"/>
              </a:rPr>
              <a:t>What was the effect of the G.I.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 Bill--Not open to al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regated Colle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Estat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tgage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23:02:51Z</dcterms:created>
  <dc:creator>Lauren Tallevi</dc:creator>
  <dc:description/>
  <dc:language>en-US</dc:language>
  <cp:lastModifiedBy>WPS</cp:lastModifiedBy>
  <dcterms:modified xsi:type="dcterms:W3CDTF">2009-05-20T10:55:01Z</dcterms:modified>
  <cp:revision>12</cp:revision>
  <dc:subject/>
  <dc:title>Post-war America: 1945-1960</dc:title>
</cp:coreProperties>
</file>